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F04A-9994-481E-A742-1A46C2BF7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DD25-F2D1-4121-8799-0F1B947C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B560-82B6-4B30-B3EB-654ACF455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D3CC-F08E-44D7-9341-6E6B7DA43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68B5-E0B2-4DF0-ACFA-466FB6A55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44A8-5091-46A0-BF9A-91CCAAED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9A01-BECC-4440-86A3-C8F19E0D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5675-09DA-49CD-ACC9-A8940576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71A7-6A39-4B61-A9B5-6E75F3FE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2B09-FC5C-4063-8FB7-E871FA80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3BB7-CC5C-4AE6-8ECD-F1121618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AEC0-37F8-47F9-813B-78CE1EB7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F10F-ABBA-456B-B27F-1744DA88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5600-902D-40F2-B4B0-3EAF75D9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972F-6FED-4171-A590-132D7E67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F9DB-233E-4D18-A095-D495F240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9956-787D-40CD-86BB-5DADEAE14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0EAB-AE7A-4C57-9849-B493BE11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2E46-728E-42EB-BD22-234E318F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727C-B7DC-4F40-93A3-1065B87E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ED5B-5012-4792-8E29-B72F5374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97B0-F4AA-46C2-A218-7D1AECD9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C946-8A87-48EF-91A8-4A002DAA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838D-4ECD-44A7-9CE4-434A00E3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9559-1B5C-4A15-84AF-4F5718F30FF2}" type="slidenum">
              <a:rPr b="0" lang="en-NZ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9718-6A9B-4D18-AFBB-779EE5A3A0EF}" type="slidenum">
              <a:rPr b="0" lang="en-NZ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Book Antiqua"/>
              </a:rPr>
              <a:t>Trevor, Gareth, Ju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189000" y="268200"/>
            <a:ext cx="850428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Book Antiqua"/>
              </a:rPr>
              <a:t>Virtual Ant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Book Antiqua"/>
              </a:rPr>
              <a:t>50 virtual ants incorporating motion detection have been engaging visitors to the Otago Museum Natures Gallery for 5 week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Book Antiqua"/>
              </a:rPr>
              <a:t>Cityscap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Book Antiqua"/>
              </a:rPr>
              <a:t>Connecting people with their heritage and community through our S.H.P(stupidly huge panorama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189000" y="268200"/>
            <a:ext cx="850428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Book Antiqua"/>
              </a:rPr>
              <a:t>We have delivered the virtual ant project to the Otago Museum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ffffff"/>
                </a:solidFill>
                <a:latin typeface="Book Antiqua"/>
              </a:rPr>
              <a:t>(search virtual ants on youtube.com or go to Otago Museum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8" name="Picture 3" descr="youtube.JPG"/>
          <p:cNvPicPr/>
          <p:nvPr/>
        </p:nvPicPr>
        <p:blipFill>
          <a:blip r:embed="rId2"/>
          <a:stretch/>
        </p:blipFill>
        <p:spPr>
          <a:xfrm>
            <a:off x="1928880" y="2857680"/>
            <a:ext cx="542916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189000" y="268200"/>
            <a:ext cx="8504280" cy="1158840"/>
          </a:xfrm>
          <a:prstGeom prst="rect">
            <a:avLst/>
          </a:prstGeom>
          <a:ln w="0">
            <a:noFill/>
          </a:ln>
        </p:spPr>
      </p:pic>
      <p:pic>
        <p:nvPicPr>
          <p:cNvPr id="90" name="Content Placeholder 3" descr="delivery.JPG"/>
          <p:cNvPicPr/>
          <p:nvPr/>
        </p:nvPicPr>
        <p:blipFill>
          <a:blip r:embed="rId2"/>
          <a:stretch/>
        </p:blipFill>
        <p:spPr>
          <a:xfrm>
            <a:off x="1752480" y="2244600"/>
            <a:ext cx="56390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189000" y="268200"/>
            <a:ext cx="881532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Book Antiqua"/>
              </a:rPr>
              <a:t>We are experimenting with different input devices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Picture 3" descr="mouse.JPG"/>
          <p:cNvPicPr/>
          <p:nvPr/>
        </p:nvPicPr>
        <p:blipFill>
          <a:blip r:embed="rId2"/>
          <a:stretch/>
        </p:blipFill>
        <p:spPr>
          <a:xfrm>
            <a:off x="1214280" y="2357280"/>
            <a:ext cx="2067120" cy="1962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p55.jpg"/>
          <p:cNvPicPr/>
          <p:nvPr/>
        </p:nvPicPr>
        <p:blipFill>
          <a:blip r:embed="rId3"/>
          <a:stretch/>
        </p:blipFill>
        <p:spPr>
          <a:xfrm>
            <a:off x="3571920" y="2357280"/>
            <a:ext cx="214308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225360" y="103320"/>
            <a:ext cx="8467920" cy="1323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Book Antiqua"/>
              </a:rPr>
              <a:t>Waiting on the data glov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Book Antiqua"/>
              </a:rPr>
              <a:t>Still experimenting with moving images around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22:12:46Z</dcterms:created>
  <dc:creator>Default-User</dc:creator>
  <dc:description/>
  <dc:language>en-US</dc:language>
  <cp:lastModifiedBy>Default-User</cp:lastModifiedBy>
  <dcterms:modified xsi:type="dcterms:W3CDTF">2009-07-20T22:41:51Z</dcterms:modified>
  <cp:revision>3</cp:revision>
  <dc:subject/>
  <dc:title>AntWall</dc:title>
</cp:coreProperties>
</file>